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6FB05-F0ED-4B1A-9E89-3EE9496E8151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AD267-F674-43AE-97A3-791E3C72EB9D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0521F-4C42-4FDB-A369-A03F82DB70E9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3"/>
          <p:cNvSpPr/>
          <p:nvPr/>
        </p:nvSpPr>
        <p:spPr>
          <a:xfrm>
            <a:off x="723960" y="32097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ierre SOB and Saori TERA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CHR Training package on gender integrati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va (January 2013  updat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23600" y="2041200"/>
            <a:ext cx="658980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ENDER RESPONSIVE BUDGETS IN ORGANIZATION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CEDAW GENDER CRITERIA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0880" y="1309320"/>
            <a:ext cx="7566120" cy="46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llocation of resources to target gender equality and the advancement of wome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void resource allocation to spending that would discriminate against women and girls (directly or indirectly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lease adequate resources to honor commitments on equality between women and me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icipate the impact of spending on equality between women and men, including in the context of budgetary reform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OHCHR PERFORMANCE IN GENDER RESPONSIVE BUDGET PRIORITIZATION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0880" y="1364760"/>
            <a:ext cx="756612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Is gender equality one of the current OHCHR budget priorities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How have budgets for gender evolved over the past few years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What are the main challenges for developing a gender responsive budget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re there any opportunities deriving from enhancing gender equality programmes in developing a gender responsive budget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an the existing budget culture (if any) be modified?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 6" descr="title_slide_background_3_white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4230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40880" y="1498680"/>
            <a:ext cx="75661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For further information,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please visit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6fb7"/>
                </a:solidFill>
                <a:latin typeface="Arial"/>
              </a:rPr>
              <a:t>www.ohchr.or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OME ASUMPTIONS ABOUT PUBLIC BUDGET PRODUCTION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8720" y="1472760"/>
            <a:ext cx="8323200" cy="44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ollect revenue (taxes and duties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distribute earnings for public goods and servi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gulate the country’s economy (manage macro economic policies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U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ot aimed at reducing gender inequa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No disaggregation of group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Unequal redistribution of resourc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Lack of transparency in the proces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463320"/>
            <a:ext cx="756612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MACRO ECONOMIC BIAS AND GENDER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45760" y="1324080"/>
            <a:ext cx="7761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t is assumed that development will be achieved through economic growth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cial discriminations derive from the lack of developmen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e market will regulate/reduce inequal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rowth should override righ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WHAT IS GENDER RESPONSIVE BUDGETING (GRB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0880" y="1733040"/>
            <a:ext cx="7566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ender responsive budgeting is about integrating a gender perspective into public finance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Gender responsive budgets are not separate budgets for women, but instead, general budgets that are planned, approved, executed, monitored and audited in a gender-sensitive wa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WHAT DOES GRB AIM TO ACHIEVE </a:t>
            </a: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ADVANCING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responsive budgeting explicitly takes into account the unpaid care work which all over the world is undertaken primarily by wome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paid care work involves activities such as housework, childcare, and care for others in the household that is done on an unpaid basis by family member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work is not covered by the System of National Accounts (SNA) which provides the rules for computing gross domestic product (GDP) and thus the statistics for macroeconomic policy decis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VALUE ADDED OF GENDER RESPONSIVE BUDGETING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40880" y="1501560"/>
            <a:ext cx="75661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nitoring of the achievement of policy goal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lleviating poverty more effectivel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nhancing economic efficien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chieving gender equalit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dvancement towards the realization of women's human right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chieving good governan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nhancing accountability and transparen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s applicable at State and Organizational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ELEMENTS OF A STANDARD GENDER RESPONSIVE BUDGE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pecific budget lines to reduce gender inequalit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tore gender equality by adopting specific budgets addressing women and men particular need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nditures for equal opportunities between female and male employe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qual participation by women and men in the entire budget proces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SPECIFICITIES OF GENDER RESPONSIVE BUDGETING IN ORGANIZATION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Budgets of international organizations are allotted by their governing body (regular budget)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Nowadays all organizations resort to «extra-budgetary resources» to fully implement its programme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uch fund raising (XB) is controlled by the governing body inspite of its voluntary natur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500" spc="-1" strike="noStrike">
                <a:solidFill>
                  <a:srgbClr val="333333"/>
                </a:solidFill>
                <a:latin typeface="Arial"/>
              </a:rPr>
              <a:t>Programme budgets are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subjected to negotiations between the organization leadership and the governing bodies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PLAY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0880" y="1270080"/>
            <a:ext cx="7566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t national level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ational machineries, including elected bodies and technical and decentralized administr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vil society organizations and Human rights activis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t international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eadership and Management in organiz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lementing organizational uni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Pierre SOB</cp:lastModifiedBy>
  <dcterms:modified xsi:type="dcterms:W3CDTF">2013-01-09T16:29:44Z</dcterms:modified>
  <cp:revision>158</cp:revision>
  <dc:subject/>
  <dc:title>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ffice Template">
    <vt:lpwstr>Presentation (Powerpoint)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avid McCreery</vt:lpwstr>
  </property>
  <property fmtid="{D5CDD505-2E9C-101B-9397-08002B2CF9AE}" pid="8" name="display_urn:schemas-microsoft-com:office:office#Editor">
    <vt:lpwstr>David McCreery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